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5.xml.rels" ContentType="application/vnd.openxmlformats-package.relationships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6.png" ContentType="image/png"/>
  <Override PartName="/ppt/media/image42.jpeg" ContentType="image/jpeg"/>
  <Override PartName="/ppt/media/image38.jpeg" ContentType="image/jpeg"/>
  <Override PartName="/ppt/media/image7.jpeg" ContentType="image/jpeg"/>
  <Override PartName="/ppt/media/image4.png" ContentType="image/pn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62.jpeg" ContentType="image/jpeg"/>
  <Override PartName="/ppt/media/image50.jpeg" ContentType="image/jpeg"/>
  <Override PartName="/ppt/media/image60.png" ContentType="image/png"/>
  <Override PartName="/ppt/media/image26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61.jpeg" ContentType="image/jpeg"/>
  <Override PartName="/ppt/media/image17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8.png" ContentType="image/pn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1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63.png" ContentType="image/png"/>
  <Override PartName="/ppt/media/image57.jpeg" ContentType="image/jpeg"/>
  <Override PartName="/ppt/media/image46.jpeg" ContentType="image/jpeg"/>
  <Override PartName="/ppt/media/image5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0116-162C-4081-BE66-598CAEDA15B6}" type="slidenum"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Surgical trea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CD09-A0A3-4D72-8CDE-394C1CBE87A2}" type="slidenum"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A9DF-1571-42C4-A03F-7A53EF18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EB60-10DA-464F-829E-D305B2A0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3F86-F2B9-41A5-BCDD-DC018094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99B1-7B22-477A-8FF1-CDEABF3C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561-B7F5-4ED8-8AC1-E0634CE3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AD2-C39D-4198-B3C0-5043DA6D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EEE1-3B61-4000-9E6A-CF99F2BE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724A-26AA-452B-B15F-AE71C550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3FE8-20B6-4A3C-908B-21AEDACF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B5BB-6BEC-4B11-97C9-B6E821B5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A0F7-326B-4D35-B892-6DD90CA1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7620-1DEB-4979-9F7B-E843A60F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6FA1-B98A-4D64-9B03-61BA91D335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128556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genital heart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 Violeta Irić</a:t>
            </a:r>
            <a:r>
              <a:rPr b="1" i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Ćup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GRATED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nit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Konverzij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06164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ans that in the arterial circulation despite the existance of a defect, there will be exclusively oxygenated blood and cyanosis will not exist, so it means that CHD will be acyanoge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the venous system will now also contain part of the oxygenated blood that has passed into the venous system due to the existing de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640" y="10616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now the entire amount of blood from the venous system (both reduced or nonoxygenated and oxygenated blood) will go into the pulmonary circulation in order to be oxyge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defect is larger, the amount of blood will be larger and the pulmonary circulation will have a greater or hug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way, the total amount of venous blood will burden the venous and pulmonary circulation, so the pressure in the venous and pulmonary circulation will begin to incr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some moment, the pressure in the pulmonary and venous circulation will increase so much that it will exceed the pressure in the arterial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the blood flow will start to switch from venous to arterial system, that is, shunt reversion of bloof flow will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06164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shunt reversion occurs, there will be both oxygenated and non-oxygenated blood in the systemic arterial circulation, so cyanosis will occur and the CHD will become cyanogen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ception is extremely large defects of the interventricular septum when the right and left ventricle practically functions as one or a common ventricle, so the defect will immediately be cyanogenyc primar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rimary cyanogenic CHD with RL shunt, these are extremely large defects or anomalies of large blood vessels when the blood vessels receive blood simultaneously from the arterial and venous systems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riding aorta“ i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etralogy of Fallot, Transposition of large blood vessels , Common truncus arteriosus, Common ventricle...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4892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tralogy of Fallo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.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, VS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14200" y="2287080"/>
            <a:ext cx="8715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-simultaneus exist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sis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xstroposition of the aorta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ding aor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th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rophy of the right ventr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6441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tetra"/>
          <p:cNvPicPr/>
          <p:nvPr/>
        </p:nvPicPr>
        <p:blipFill>
          <a:blip r:embed="rId1"/>
          <a:stretch/>
        </p:blipFill>
        <p:spPr>
          <a:xfrm>
            <a:off x="468360" y="0"/>
            <a:ext cx="72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trilo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57160" y="128556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of all cyanogenic CHD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nding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ralogy of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ot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2428920"/>
            <a:ext cx="82296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ro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growt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i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rrence of respiratory in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anosis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typ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xemic c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are playing in crouching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and physical examination- </a:t>
            </a:r>
            <a:br>
              <a:rPr sz="2800"/>
            </a:br>
            <a:r>
              <a:rPr b="0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ntral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peripherial cya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Documents and Settings\Korisnik\My Documents\Picture1.jpg"/>
          <p:cNvPicPr/>
          <p:nvPr/>
        </p:nvPicPr>
        <p:blipFill>
          <a:blip r:embed="rId1"/>
          <a:stretch/>
        </p:blipFill>
        <p:spPr>
          <a:xfrm>
            <a:off x="357120" y="2357280"/>
            <a:ext cx="3787920" cy="4214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Documents and Settings\Korisnik\My Documents\Picture2.jpg"/>
          <p:cNvPicPr/>
          <p:nvPr/>
        </p:nvPicPr>
        <p:blipFill>
          <a:blip r:embed="rId2"/>
          <a:stretch/>
        </p:blipFill>
        <p:spPr>
          <a:xfrm>
            <a:off x="4429080" y="2428920"/>
            <a:ext cx="4041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56800" y="1143000"/>
            <a:ext cx="77533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genital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ries of disorders of the anatomical structures of the heart and large blood vessels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th which a child is b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3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C:\Documents and Settings\Korisnik\My Documents\800px-ClubbingFingers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2600" y="13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: 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642760"/>
            <a:ext cx="8229600" cy="41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murmur (pulmonary art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queness of th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1980720"/>
            <a:ext cx="54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nsatory polyglobuli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nd very high level of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b, H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ventricular hypertrophy (RV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heart with distinct RV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”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ged hea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ch of pulmonary artery is 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card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terisation of the heart and angiocardiograph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taneous filling of the aorta and pulmonary arte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Tetralogy of Fallot"/>
          <p:cNvPicPr/>
          <p:nvPr/>
        </p:nvPicPr>
        <p:blipFill>
          <a:blip r:embed="rId1"/>
          <a:stretch/>
        </p:blipFill>
        <p:spPr>
          <a:xfrm>
            <a:off x="5219640" y="1643040"/>
            <a:ext cx="39243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85520" y="1071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rgical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207180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l trea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suggested to take crouching positio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ranol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vention of endocardit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ygen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 surgical corr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lat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 of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ing the aorta to the lef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liative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stomosis of the aorta and pulmonary artery at the begining and after that intervention, total surgical corr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evere defects with severe anoxic cr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5716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 pro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rgery children di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infection and CHD complica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mbo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in absce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l endocardit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-15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ars after the intervention gives insight into normal physical activities, children grow up norm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further period, rhythm disturbances are possible, but the long-term prognosis is not entirely c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ve mortality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-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2600" y="1213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logy o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sis of pulmonary artery (mouth) associated w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ventricle is also enlarged (and 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pertrophy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320" y="1213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similar as in Tetra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f the defect is more severe, it is more similar to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the appearance of anoxemic cr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s of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050840"/>
            <a:ext cx="8701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240" y="2571480"/>
            <a:ext cx="86295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cardiography and cateterizatio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ricular-pulmonary gradient is specif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pressure in RV and low in a.pulmonal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5520" y="1285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 pro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857320"/>
            <a:ext cx="822960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rgery children die of infection and CHD complications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heart failure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rgical treatment the disease progres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ight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 surgical correction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finitiv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ther primarily cyanogenic C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sition of large blood vess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truncus arteriosu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very large VS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ventricle (the existence of one cha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64000" y="764640"/>
            <a:ext cx="2592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Diagram 3" descr=""/>
          <p:cNvPicPr/>
          <p:nvPr/>
        </p:nvPicPr>
        <p:blipFill>
          <a:blip r:embed="rId1"/>
          <a:stretch/>
        </p:blipFill>
        <p:spPr>
          <a:xfrm>
            <a:off x="-12600" y="1695600"/>
            <a:ext cx="916308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ry cyanogenic CH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enmenger s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2642760"/>
            <a:ext cx="8229600" cy="41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enmenger s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97.)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s the occurrence of the transition or re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R shunt to RL shunt in CH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ctus arteriosus persis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CHD with LR sh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: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mptoms and signs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senmenger 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an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bbing fingers (digiti hyppocrati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arrhyth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GNS OF CYANOGENIC CHD IN A PATIENT WHO HAD A NON-CYANOGENIC CH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e the most important signs and most dramatic warning for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tients and do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eisen"/>
          <p:cNvPicPr/>
          <p:nvPr/>
        </p:nvPicPr>
        <p:blipFill>
          <a:blip r:embed="rId1"/>
          <a:stretch/>
        </p:blipFill>
        <p:spPr>
          <a:xfrm>
            <a:off x="250920" y="333360"/>
            <a:ext cx="7777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84153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 in Eisenmenger 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eisen rtg"/>
          <p:cNvPicPr/>
          <p:nvPr/>
        </p:nvPicPr>
        <p:blipFill>
          <a:blip r:embed="rId1"/>
          <a:stretch/>
        </p:blipFill>
        <p:spPr>
          <a:xfrm>
            <a:off x="0" y="1928880"/>
            <a:ext cx="86043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1061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significance of shunt reversal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senmenger sy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D with LR shunt are successfully treated with surgical correctio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shunt reversal occurs, the defect and CHD is no longer oper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possibility of treating the CHD after shunt reversal (Eisenmenger sy) is HEART AND LUNG TRANS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atic treatment of CHD with RL shu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of end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bronchopulmonary in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gen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pheresis or venipun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-cyanogenic CHD or CHD with LR sh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P (P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2560" y="106164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forms of ASD and 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senmenger s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4240" y="123840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asd"/>
          <p:cNvPicPr/>
          <p:nvPr/>
        </p:nvPicPr>
        <p:blipFill>
          <a:blip r:embed="rId1"/>
          <a:stretch/>
        </p:blipFill>
        <p:spPr>
          <a:xfrm>
            <a:off x="0" y="1928880"/>
            <a:ext cx="4140360" cy="4114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ASD eho"/>
          <p:cNvPicPr/>
          <p:nvPr/>
        </p:nvPicPr>
        <p:blipFill>
          <a:blip r:embed="rId2"/>
          <a:stretch/>
        </p:blipFill>
        <p:spPr>
          <a:xfrm>
            <a:off x="4140360" y="2057400"/>
            <a:ext cx="4572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images"/>
          <p:cNvPicPr/>
          <p:nvPr/>
        </p:nvPicPr>
        <p:blipFill>
          <a:blip r:embed="rId1"/>
          <a:stretch/>
        </p:blipFill>
        <p:spPr>
          <a:xfrm>
            <a:off x="1042920" y="0"/>
            <a:ext cx="6985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em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42560" y="1989000"/>
            <a:ext cx="4141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often than all th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ave growth trends in the whol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erbia it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4-0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of them are with the LR sh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60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urodjene srcane mane"/>
          <p:cNvPicPr/>
          <p:nvPr/>
        </p:nvPicPr>
        <p:blipFill>
          <a:blip r:embed="rId1"/>
          <a:stretch/>
        </p:blipFill>
        <p:spPr>
          <a:xfrm>
            <a:off x="4284720" y="1844640"/>
            <a:ext cx="45352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images 2"/>
          <p:cNvPicPr/>
          <p:nvPr/>
        </p:nvPicPr>
        <p:blipFill>
          <a:blip r:embed="rId1"/>
          <a:stretch/>
        </p:blipFill>
        <p:spPr>
          <a:xfrm>
            <a:off x="565200" y="0"/>
            <a:ext cx="81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 and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c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571480"/>
            <a:ext cx="82296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ult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n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ne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rmur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plete right bundle branch block (RBB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arth of normal size with enlarged 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heter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lmonary blood flow is increased severa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240" y="-3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mc462664"/>
          <p:cNvPicPr/>
          <p:nvPr/>
        </p:nvPicPr>
        <p:blipFill>
          <a:blip r:embed="rId1"/>
          <a:stretch/>
        </p:blipFill>
        <p:spPr>
          <a:xfrm>
            <a:off x="539640" y="0"/>
            <a:ext cx="817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images 3"/>
          <p:cNvPicPr/>
          <p:nvPr/>
        </p:nvPicPr>
        <p:blipFill>
          <a:blip r:embed="rId1"/>
          <a:stretch/>
        </p:blipFill>
        <p:spPr>
          <a:xfrm>
            <a:off x="2286000" y="115920"/>
            <a:ext cx="60310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28240" y="1413000"/>
            <a:ext cx="75438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ASD-CXR"/>
          <p:cNvPicPr/>
          <p:nvPr/>
        </p:nvPicPr>
        <p:blipFill>
          <a:blip r:embed="rId1"/>
          <a:stretch/>
        </p:blipFill>
        <p:spPr>
          <a:xfrm>
            <a:off x="-190440" y="-1200240"/>
            <a:ext cx="9524880" cy="925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ASD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ASD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Line 14"/>
          <p:cNvSpPr/>
          <p:nvPr/>
        </p:nvSpPr>
        <p:spPr>
          <a:xfrm flipV="1">
            <a:off x="1258920" y="2420640"/>
            <a:ext cx="1512720" cy="1152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5"/>
          <p:cNvPicPr/>
          <p:nvPr/>
        </p:nvPicPr>
        <p:blipFill>
          <a:blip r:embed="rId1"/>
          <a:stretch/>
        </p:blipFill>
        <p:spPr>
          <a:xfrm>
            <a:off x="395280" y="260280"/>
            <a:ext cx="3708360" cy="6408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ASD3L"/>
          <p:cNvPicPr/>
          <p:nvPr/>
        </p:nvPicPr>
        <p:blipFill>
          <a:blip r:embed="rId2"/>
          <a:stretch/>
        </p:blipFill>
        <p:spPr>
          <a:xfrm>
            <a:off x="4716360" y="189000"/>
            <a:ext cx="4249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images 11"/>
          <p:cNvPicPr/>
          <p:nvPr/>
        </p:nvPicPr>
        <p:blipFill>
          <a:blip r:embed="rId1"/>
          <a:stretch/>
        </p:blipFill>
        <p:spPr>
          <a:xfrm>
            <a:off x="4788000" y="0"/>
            <a:ext cx="42894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Primum-ASD"/>
          <p:cNvPicPr/>
          <p:nvPr/>
        </p:nvPicPr>
        <p:blipFill>
          <a:blip r:embed="rId2"/>
          <a:stretch/>
        </p:blipFill>
        <p:spPr>
          <a:xfrm>
            <a:off x="255600" y="0"/>
            <a:ext cx="37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57160" y="128556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760" y="2642760"/>
            <a:ext cx="8229600" cy="17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are incompatible with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are compat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disrupt the childʼs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efects are well tolerated until 2nd or 3rd decade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are very small defects, so they do not have any hemodynamic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Figure 5"/>
          <p:cNvPicPr/>
          <p:nvPr/>
        </p:nvPicPr>
        <p:blipFill>
          <a:blip r:embed="rId1"/>
          <a:stretch/>
        </p:blipFill>
        <p:spPr>
          <a:xfrm>
            <a:off x="0" y="0"/>
            <a:ext cx="87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Primum-ASD-L-R-Shunt"/>
          <p:cNvPicPr/>
          <p:nvPr/>
        </p:nvPicPr>
        <p:blipFill>
          <a:blip r:embed="rId1"/>
          <a:stretch/>
        </p:blipFill>
        <p:spPr>
          <a:xfrm>
            <a:off x="539640" y="189000"/>
            <a:ext cx="7667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images 7"/>
          <p:cNvPicPr/>
          <p:nvPr/>
        </p:nvPicPr>
        <p:blipFill>
          <a:blip r:embed="rId1"/>
          <a:stretch/>
        </p:blipFill>
        <p:spPr>
          <a:xfrm>
            <a:off x="250920" y="260280"/>
            <a:ext cx="8243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520" y="1125360"/>
            <a:ext cx="74674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defect is hemodynamically significant,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adequate treatment is sur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ically closing the defect before starting school or earlier (if pulmonary hypertension develops, intervention is no longer indic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tga_intact_vs_postop"/>
          <p:cNvPicPr/>
          <p:nvPr/>
        </p:nvPicPr>
        <p:blipFill>
          <a:blip r:embed="rId1"/>
          <a:stretch/>
        </p:blipFill>
        <p:spPr>
          <a:xfrm>
            <a:off x="5796000" y="3378240"/>
            <a:ext cx="237636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asd-closure-www-drsvenkatesan-com"/>
          <p:cNvPicPr/>
          <p:nvPr/>
        </p:nvPicPr>
        <p:blipFill>
          <a:blip r:embed="rId1"/>
          <a:stretch/>
        </p:blipFill>
        <p:spPr>
          <a:xfrm>
            <a:off x="285840" y="1125360"/>
            <a:ext cx="81723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and approach of surgical and non-surgical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asd-closure-surgery1"/>
          <p:cNvPicPr/>
          <p:nvPr/>
        </p:nvPicPr>
        <p:blipFill>
          <a:blip r:embed="rId1"/>
          <a:stretch/>
        </p:blipFill>
        <p:spPr>
          <a:xfrm>
            <a:off x="3000240" y="2133720"/>
            <a:ext cx="2100240" cy="3716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minimalinvasiv_vorhof"/>
          <p:cNvPicPr/>
          <p:nvPr/>
        </p:nvPicPr>
        <p:blipFill>
          <a:blip r:embed="rId2"/>
          <a:stretch/>
        </p:blipFill>
        <p:spPr>
          <a:xfrm>
            <a:off x="5572080" y="2884320"/>
            <a:ext cx="3032280" cy="3973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img_cardiac_open"/>
          <p:cNvPicPr/>
          <p:nvPr/>
        </p:nvPicPr>
        <p:blipFill>
          <a:blip r:embed="rId3"/>
          <a:stretch/>
        </p:blipFill>
        <p:spPr>
          <a:xfrm>
            <a:off x="468360" y="1592280"/>
            <a:ext cx="2143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surgical procedure</a:t>
            </a:r>
            <a:br>
              <a:rPr sz="2800"/>
            </a:b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eptal occluders (without opening the chest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images 8"/>
          <p:cNvPicPr/>
          <p:nvPr/>
        </p:nvPicPr>
        <p:blipFill>
          <a:blip r:embed="rId1"/>
          <a:stretch/>
        </p:blipFill>
        <p:spPr>
          <a:xfrm>
            <a:off x="3995640" y="2428920"/>
            <a:ext cx="4321440" cy="3786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Nitinol-ASD-device-closure"/>
          <p:cNvPicPr/>
          <p:nvPr/>
        </p:nvPicPr>
        <p:blipFill>
          <a:blip r:embed="rId2"/>
          <a:stretch/>
        </p:blipFill>
        <p:spPr>
          <a:xfrm>
            <a:off x="395280" y="2276640"/>
            <a:ext cx="352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surgical procedure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al occluders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helex"/>
          <p:cNvPicPr/>
          <p:nvPr/>
        </p:nvPicPr>
        <p:blipFill>
          <a:blip r:embed="rId1"/>
          <a:stretch/>
        </p:blipFill>
        <p:spPr>
          <a:xfrm>
            <a:off x="900000" y="2421000"/>
            <a:ext cx="6572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images 1"/>
          <p:cNvPicPr/>
          <p:nvPr/>
        </p:nvPicPr>
        <p:blipFill>
          <a:blip r:embed="rId1"/>
          <a:stretch/>
        </p:blipFill>
        <p:spPr>
          <a:xfrm>
            <a:off x="324000" y="0"/>
            <a:ext cx="77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images 9"/>
          <p:cNvPicPr/>
          <p:nvPr/>
        </p:nvPicPr>
        <p:blipFill>
          <a:blip r:embed="rId1"/>
          <a:stretch/>
        </p:blipFill>
        <p:spPr>
          <a:xfrm>
            <a:off x="0" y="189000"/>
            <a:ext cx="8532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of congenital heart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ects with cyano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ects with RL shu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flow from venous to the arterial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ects with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yano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ects with LR shu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lood flow from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stem)-50-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Defects without </a:t>
            </a:r>
            <a:r>
              <a:rPr b="0" lang="sr-Latn-RS" sz="2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shunt</a:t>
            </a:r>
            <a:r>
              <a:rPr b="0" lang="en-US" sz="2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15-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 def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ventr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 triatriat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ic anomaly of coronary artery vessels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920" y="873000"/>
            <a:ext cx="867888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and therapeutic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ASD_Verschluss"/>
          <p:cNvPicPr/>
          <p:nvPr/>
        </p:nvPicPr>
        <p:blipFill>
          <a:blip r:embed="rId1"/>
          <a:stretch/>
        </p:blipFill>
        <p:spPr>
          <a:xfrm>
            <a:off x="0" y="1714680"/>
            <a:ext cx="81723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images 4"/>
          <p:cNvPicPr/>
          <p:nvPr/>
        </p:nvPicPr>
        <p:blipFill>
          <a:blip r:embed="rId1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240" y="260280"/>
            <a:ext cx="75438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bas"/>
          <p:cNvPicPr/>
          <p:nvPr/>
        </p:nvPicPr>
        <p:blipFill>
          <a:blip r:embed="rId1"/>
          <a:stretch/>
        </p:blipFill>
        <p:spPr>
          <a:xfrm>
            <a:off x="2576520" y="404640"/>
            <a:ext cx="56674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images 10"/>
          <p:cNvPicPr/>
          <p:nvPr/>
        </p:nvPicPr>
        <p:blipFill>
          <a:blip r:embed="rId1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9680" y="11426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cal correction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img_cardiac_open"/>
          <p:cNvPicPr/>
          <p:nvPr/>
        </p:nvPicPr>
        <p:blipFill>
          <a:blip r:embed="rId1"/>
          <a:stretch/>
        </p:blipFill>
        <p:spPr>
          <a:xfrm>
            <a:off x="3772080" y="2249640"/>
            <a:ext cx="4400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sunday-or-21"/>
          <p:cNvPicPr/>
          <p:nvPr/>
        </p:nvPicPr>
        <p:blipFill>
          <a:blip r:embed="rId1"/>
          <a:stretch/>
        </p:blipFill>
        <p:spPr>
          <a:xfrm>
            <a:off x="-987480" y="-739800"/>
            <a:ext cx="11118960" cy="83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op na srcu"/>
          <p:cNvPicPr/>
          <p:nvPr/>
        </p:nvPicPr>
        <p:blipFill>
          <a:blip r:embed="rId1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28240" y="1628280"/>
            <a:ext cx="7543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2137_fig_4_med"/>
          <p:cNvPicPr/>
          <p:nvPr/>
        </p:nvPicPr>
        <p:blipFill>
          <a:blip r:embed="rId1"/>
          <a:stretch/>
        </p:blipFill>
        <p:spPr>
          <a:xfrm>
            <a:off x="250920" y="0"/>
            <a:ext cx="8137440" cy="66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Bypass-Surgery"/>
          <p:cNvPicPr/>
          <p:nvPr/>
        </p:nvPicPr>
        <p:blipFill>
          <a:blip r:embed="rId1"/>
          <a:stretch/>
        </p:blipFill>
        <p:spPr>
          <a:xfrm>
            <a:off x="0" y="0"/>
            <a:ext cx="82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images 6"/>
          <p:cNvPicPr/>
          <p:nvPr/>
        </p:nvPicPr>
        <p:blipFill>
          <a:blip r:embed="rId1"/>
          <a:stretch/>
        </p:blipFill>
        <p:spPr>
          <a:xfrm>
            <a:off x="0" y="0"/>
            <a:ext cx="83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856800"/>
            <a:ext cx="82310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of congenital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Diagram 3" descr=""/>
          <p:cNvPicPr/>
          <p:nvPr/>
        </p:nvPicPr>
        <p:blipFill>
          <a:blip r:embed="rId1"/>
          <a:stretch/>
        </p:blipFill>
        <p:spPr>
          <a:xfrm>
            <a:off x="176040" y="1700280"/>
            <a:ext cx="868212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closure-fig3"/>
          <p:cNvPicPr/>
          <p:nvPr/>
        </p:nvPicPr>
        <p:blipFill>
          <a:blip r:embed="rId1"/>
          <a:stretch/>
        </p:blipFill>
        <p:spPr>
          <a:xfrm>
            <a:off x="42840" y="9360"/>
            <a:ext cx="905832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240" y="-3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mitral-fig7"/>
          <p:cNvPicPr/>
          <p:nvPr/>
        </p:nvPicPr>
        <p:blipFill>
          <a:blip r:embed="rId1"/>
          <a:stretch/>
        </p:blipFill>
        <p:spPr>
          <a:xfrm>
            <a:off x="0" y="0"/>
            <a:ext cx="83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gunner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live_photo2249470"/>
          <p:cNvPicPr/>
          <p:nvPr/>
        </p:nvPicPr>
        <p:blipFill>
          <a:blip r:embed="rId1"/>
          <a:stretch/>
        </p:blipFill>
        <p:spPr>
          <a:xfrm>
            <a:off x="0" y="115920"/>
            <a:ext cx="3851280" cy="6553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shalini"/>
          <p:cNvPicPr/>
          <p:nvPr/>
        </p:nvPicPr>
        <p:blipFill>
          <a:blip r:embed="rId2"/>
          <a:stretch/>
        </p:blipFill>
        <p:spPr>
          <a:xfrm>
            <a:off x="4284720" y="260280"/>
            <a:ext cx="4248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hs"/>
          <p:cNvPicPr/>
          <p:nvPr/>
        </p:nvPicPr>
        <p:blipFill>
          <a:blip r:embed="rId1"/>
          <a:stretch/>
        </p:blipFill>
        <p:spPr>
          <a:xfrm>
            <a:off x="0" y="0"/>
            <a:ext cx="83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woman-heart-surgery-scar"/>
          <p:cNvPicPr/>
          <p:nvPr/>
        </p:nvPicPr>
        <p:blipFill>
          <a:blip r:embed="rId1"/>
          <a:stretch/>
        </p:blipFill>
        <p:spPr>
          <a:xfrm>
            <a:off x="1908000" y="0"/>
            <a:ext cx="633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en_07f3b"/>
          <p:cNvPicPr/>
          <p:nvPr/>
        </p:nvPicPr>
        <p:blipFill>
          <a:blip r:embed="rId1"/>
          <a:stretch/>
        </p:blipFill>
        <p:spPr>
          <a:xfrm>
            <a:off x="755640" y="1125360"/>
            <a:ext cx="77770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asd-device-closure-4"/>
          <p:cNvPicPr/>
          <p:nvPr/>
        </p:nvPicPr>
        <p:blipFill>
          <a:blip r:embed="rId1"/>
          <a:stretch/>
        </p:blipFill>
        <p:spPr>
          <a:xfrm>
            <a:off x="250920" y="115920"/>
            <a:ext cx="77058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RPY_SUPERMAN_ALEX_BRIGGS_JP03"/>
          <p:cNvPicPr/>
          <p:nvPr/>
        </p:nvPicPr>
        <p:blipFill>
          <a:blip r:embed="rId1"/>
          <a:stretch/>
        </p:blipFill>
        <p:spPr>
          <a:xfrm>
            <a:off x="1619280" y="115920"/>
            <a:ext cx="56894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1424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ct of membranous or muscular part of interventricular sep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most common CHD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-60%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closed spontaneusly during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785520"/>
            <a:ext cx="746748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ngenital heart disease with cya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Diagram 3" descr=""/>
          <p:cNvPicPr/>
          <p:nvPr/>
        </p:nvPicPr>
        <p:blipFill>
          <a:blip r:embed="rId1"/>
          <a:stretch/>
        </p:blipFill>
        <p:spPr>
          <a:xfrm>
            <a:off x="212760" y="1987560"/>
            <a:ext cx="864540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vsd"/>
          <p:cNvPicPr/>
          <p:nvPr/>
        </p:nvPicPr>
        <p:blipFill>
          <a:blip r:embed="rId1"/>
          <a:stretch/>
        </p:blipFill>
        <p:spPr>
          <a:xfrm>
            <a:off x="0" y="1981080"/>
            <a:ext cx="4140360" cy="41148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vsd memb"/>
          <p:cNvPicPr/>
          <p:nvPr/>
        </p:nvPicPr>
        <p:blipFill>
          <a:blip r:embed="rId2"/>
          <a:stretch/>
        </p:blipFill>
        <p:spPr>
          <a:xfrm>
            <a:off x="4191120" y="1700280"/>
            <a:ext cx="47242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85840" y="1142640"/>
            <a:ext cx="84866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3400" y="1989000"/>
            <a:ext cx="4343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uscul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rse systolic murmur in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ICA, propagation in all dir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rophy of left and right ventr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diography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larged both ventr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hocard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heter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theter from the right ventricle enters to the left ventricle and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028" descr=""/>
          <p:cNvPicPr/>
          <p:nvPr/>
        </p:nvPicPr>
        <p:blipFill>
          <a:blip r:embed="rId1"/>
          <a:stretch/>
        </p:blipFill>
        <p:spPr>
          <a:xfrm>
            <a:off x="4714920" y="2428920"/>
            <a:ext cx="388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600" y="1341360"/>
            <a:ext cx="68086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 prognosi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def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slightly increased pulmonary blood flow) stays asymptomatic during whole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def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art fail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 the development of pulmonary hypertension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a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 of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uctus arteriosus persist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muscular vessel between the descending aorta and the pulmonary artery which is needed in fetal life and in the postnatal period it closes normally for 15 min to 3 months of life (at first functionally, than anatomic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enough vasoconstrictors and 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failure to close results in CHD with LR shunt (temporary pulmonary hyper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ductus"/>
          <p:cNvPicPr/>
          <p:nvPr/>
        </p:nvPicPr>
        <p:blipFill>
          <a:blip r:embed="rId1"/>
          <a:stretch/>
        </p:blipFill>
        <p:spPr>
          <a:xfrm>
            <a:off x="684360" y="549360"/>
            <a:ext cx="662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2928600"/>
            <a:ext cx="822960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LV hypertro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larged LV, prominent arch of the pulmonary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heteris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rast flow from aorta to the pulmonary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cal trea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ation or cutting of the c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operative mort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0.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 SINGLE CHILD WITH THIS DEFECT SHOULD NOT BE UNOPER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ortic coar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28240" y="2143080"/>
            <a:ext cx="441468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constriction of the lumen of the aorta in the region of 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.arterios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hment or in any other place of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circulation in the distal part of the aorta is maintained by collateral bloo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koarkt"/>
          <p:cNvPicPr/>
          <p:nvPr/>
        </p:nvPicPr>
        <p:blipFill>
          <a:blip r:embed="rId1"/>
          <a:stretch/>
        </p:blipFill>
        <p:spPr>
          <a:xfrm>
            <a:off x="4788000" y="1905120"/>
            <a:ext cx="3960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42600" y="1213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2287080"/>
            <a:ext cx="84009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repancy in the development of the upper and lower extremities (hypertrophy of the upper and hypotrophy of the lower exstrem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blood pressure values measured at the upper exstremities and low blood pressure values measured at the lower exstrem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ult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murmur over the aort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nted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ton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28240" y="2571840"/>
            <a:ext cx="33354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rmal or hypertrophic 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larged L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stenotic aortic dila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cathete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koart CT"/>
          <p:cNvPicPr/>
          <p:nvPr/>
        </p:nvPicPr>
        <p:blipFill>
          <a:blip r:embed="rId1"/>
          <a:stretch/>
        </p:blipFill>
        <p:spPr>
          <a:xfrm>
            <a:off x="3708360" y="1714680"/>
            <a:ext cx="49528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re is a defect in any part between the arterial and venous system, the blood will always move from the area of higher pressure to the area where the pressure is lo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 pressure in the arterial system is higher, blood will move from the arterial system (oxygenated blood) to the venous system (reduced or unoxygenated bl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cal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sion of the narrowed part of the aorta with terminoterminal s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surgical intervention-dilatation with stenting of the narrowed part of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ypical auscultatory finding in C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14200" y="2287080"/>
            <a:ext cx="8786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nurmur over a. 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Т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А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murmur (V ICA) propagating in all directions like overrun wheel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nel murmur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fall nois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0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240" y="9288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important thing is the end resul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RPY_SUPERMAN_ALEX_BRIGGS_JP03"/>
          <p:cNvPicPr/>
          <p:nvPr/>
        </p:nvPicPr>
        <p:blipFill>
          <a:blip r:embed="rId1"/>
          <a:stretch/>
        </p:blipFill>
        <p:spPr>
          <a:xfrm>
            <a:off x="3132000" y="1916280"/>
            <a:ext cx="2895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9:29:08Z</dcterms:created>
  <dc:creator>Korisnik</dc:creator>
  <dc:description/>
  <dc:language>en-US</dc:language>
  <cp:lastModifiedBy>Violeta</cp:lastModifiedBy>
  <dcterms:modified xsi:type="dcterms:W3CDTF">2023-08-20T11:53:47Z</dcterms:modified>
  <cp:revision>219</cp:revision>
  <dc:subject/>
  <dc:title>Urodjene srcane mane</dc:title>
</cp:coreProperties>
</file>